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1684"/>
        <c:axId val="24754145"/>
      </c:barChart>
      <c:catAx>
        <c:axId val="7841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54145"/>
        <c:crosses val="autoZero"/>
        <c:auto val="1"/>
        <c:lblAlgn val="ctr"/>
        <c:lblOffset val="100"/>
        <c:noMultiLvlLbl val="0"/>
      </c:catAx>
      <c:valAx>
        <c:axId val="24754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1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E0E-B544-4B46-8D09-AEE7DA96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C1A-C7F3-40FC-84CA-31C45976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C4FD-34A7-4D47-B145-B6F6AAAA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5D4-F0DE-43EA-A469-6116739E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9F8-0ABA-4F0A-8522-D6FA935E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795-75BC-42AD-9E0B-E82FA9A6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911-3371-4D8A-90D5-2903B6FB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4E39-DCC0-4DE5-A529-8BE2EDF9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776-928C-4969-AB1F-CBD8A614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24A-F57F-498A-828E-0C996A02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620-18CF-4BDE-8320-97E2D85E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18C-73A4-403D-B8BB-E990AE12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120FF-B2F5-4C0F-8CA5-7A8C1C318C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